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6015-C915-4065-BBEC-085D9EE6B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944600"/>
            <a:ext cx="7772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7C7E-47C5-47EE-90FB-DAE6E3C1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9446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9446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1DB3-8727-4B54-9CFB-9D03375D4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335232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335232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94460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94460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94460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7E8F-9A7F-4905-88A3-71AFCBA29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0C4B-949E-4EEB-9BCF-91DF64187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892B-7EE4-48D5-90D6-4BA81B13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7919-D984-43CF-9536-B46E7E31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05C1-027B-4406-8C66-0C68FBD7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3ED1-D63A-4175-BEC9-0A87D6C9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B5C90-180A-4BEE-A296-C5E5E4E2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9446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E2E0-E72D-468B-B3F3-55CC7ACE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28CF-8D33-4954-A8E5-00FD10EA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9446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D1F1-2051-4BC8-BC56-BA05F5F3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944600"/>
            <a:ext cx="7772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C280-4305-4F16-A696-B2B9CC98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944600"/>
            <a:ext cx="7772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7690-44DF-4C4F-A877-221623B2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9446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9446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84CB-513B-48CB-A71F-A6EA82C82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335232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335232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94460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94460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94460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A05A-6016-46DB-A944-C4554D3D5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2D32-A26B-4D2C-A409-4AB6BF36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7FD3-377C-4AB6-BF1E-CAC37859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1FF8-AD65-4678-A095-B170A2B7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4081-55F1-46B0-8F70-5E061CD7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9446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7D97-C0EB-4F0C-8D0A-D49B9D9C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9446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4F82-BE60-4A73-9741-52867DAC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944600"/>
            <a:ext cx="7772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44F8-848D-485F-A841-C36E9333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 fontScale="73000"/>
          </a:bodyPr>
          <a:p>
            <a:pPr marL="444600" indent="-444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2880" indent="-389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1160" indent="-333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79080" indent="-277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12800" indent="-277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12800" indent="-277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12800" indent="-277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6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27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2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B593-BF0C-4159-A115-927973582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3972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98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098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E2AF-A7AC-44DA-B8AE-5EDC39424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167652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60300c"/>
                </a:solidFill>
                <a:latin typeface="Arial Black"/>
              </a:rPr>
              <a:t>  </a:t>
            </a:r>
            <a:r>
              <a:rPr b="0" lang="en-US" sz="5400" spc="-1" strike="noStrike">
                <a:solidFill>
                  <a:srgbClr val="60300c"/>
                </a:solidFill>
                <a:latin typeface="Arial Black"/>
              </a:rPr>
              <a:t>Culture</a:t>
            </a:r>
            <a:br>
              <a:rPr sz="5400"/>
            </a:br>
            <a:br>
              <a:rPr sz="2800"/>
            </a:br>
            <a:br>
              <a:rPr sz="2800"/>
            </a:br>
            <a:r>
              <a:rPr b="0" lang="en-US" sz="3600" spc="-1" strike="noStrike">
                <a:solidFill>
                  <a:srgbClr val="60300c"/>
                </a:solidFill>
                <a:latin typeface="Arial Black"/>
              </a:rPr>
              <a:t>Traditional and Global Culture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057400" y="2895480"/>
            <a:ext cx="640080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raditions and values have been passed on to you by your family?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Recipes, quilts, stories, religion, kindness, giving to ch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71800" y="1143000"/>
            <a:ext cx="5029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Arial Black"/>
              </a:rPr>
              <a:t>E-Journal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828800" y="2514600"/>
            <a:ext cx="7010280" cy="40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ditions -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stoms, beliefs, opinions, and stories passed from one generation to anoth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al express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could include telling stories, such as how the world was crea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520" y="1218960"/>
            <a:ext cx="50292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Arial Black"/>
              </a:rPr>
              <a:t>Traditions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81080" y="2971800"/>
            <a:ext cx="685800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motiona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ed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osca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ies, songs, da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ysical Need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apting to physical environment) – moose meat, pewter jewlry, canoeing, ski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19520" y="1219320"/>
            <a:ext cx="50292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Arial Black"/>
              </a:rPr>
              <a:t>Examples of Traditions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81080" y="2666880"/>
            <a:ext cx="6858000" cy="38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ditional cultur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s of a group established over many genera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ceremonies that are part of a traditional culture and/or relig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arriage, Bar Mitzvah, sweat lod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00400" y="1143000"/>
            <a:ext cx="5029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Arial Black"/>
              </a:rPr>
              <a:t>Traditional Culture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666880" y="3276720"/>
            <a:ext cx="4800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view not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tomorrow’s quiz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971800" y="1523880"/>
            <a:ext cx="41148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Arial Black"/>
              </a:rPr>
              <a:t>Homework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20:51:47Z</dcterms:created>
  <dc:creator>Administrator</dc:creator>
  <dc:description/>
  <cp:keywords/>
  <dc:language>en-US</dc:language>
  <cp:lastModifiedBy>Administrator</cp:lastModifiedBy>
  <dcterms:modified xsi:type="dcterms:W3CDTF">2006-02-27T00:03:14Z</dcterms:modified>
  <cp:revision>12</cp:revision>
  <dc:subject/>
  <dc:title>       Culture   Traditional, Popular, and Global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931033</vt:lpwstr>
  </property>
</Properties>
</file>